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43B-0070-45E1-9CF8-C7BB643B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D9E-5D94-4E01-A2DD-A3964C1F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AA4-E09A-4B07-A2B0-A7D91964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383-B8B6-40B8-B90A-D7846654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DA1-05BA-4840-8644-CC7A8C45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D73-1C8B-47F4-A76D-D0001975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7CE-5AED-4111-8924-8497FDE7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E77-3EDD-4B4F-BEC7-66942F86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0D1-919D-4BAB-B2B8-0BC85D2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DBC-FD04-48B8-89C7-3CB7A0DE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0AE-8994-4090-BA69-B0086F4C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501-A743-4F12-8D43-3631DE7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DC78-42AD-4CF8-96F4-643A48C4D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665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Times New Roman"/>
              </a:rPr>
              <a:t>What is a thesis?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verdana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1500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?</a:t>
            </a:r>
            <a:r>
              <a:rPr b="0" lang="en-US" sz="9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762120"/>
            <a:ext cx="3809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66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verdana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600" spc="-1" strike="noStrike">
                <a:solidFill>
                  <a:srgbClr val="008080"/>
                </a:solidFill>
                <a:latin typeface="Courier New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          ? ?      </a:t>
            </a:r>
            <a:r>
              <a:rPr b="0" lang="en-US" sz="7200" spc="-1" strike="noStrike">
                <a:solidFill>
                  <a:srgbClr val="339933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Arial Black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0000"/>
                </a:solidFill>
                <a:latin typeface="Arial Blac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 Black"/>
              </a:rPr>
              <a:t>    </a:t>
            </a:r>
            <a:r>
              <a:rPr b="0" lang="en-US" sz="4800" spc="-1" strike="noStrike">
                <a:solidFill>
                  <a:srgbClr val="3333cc"/>
                </a:solidFill>
                <a:latin typeface="Arial Black"/>
              </a:rPr>
              <a:t>Use your notes to help you get started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roductory Paragrap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</a:rPr>
              <a:t>Must grab the reader’s attention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</a:rPr>
              <a:t>You might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use a quot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tell an anecdote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relate to real lif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discuss the the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give author background (if it relates to your thesi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provide historical contex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</a:rPr>
              <a:t>Thesis statement is the LAST sentence of the introductory paragrap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imes New Roman"/>
              </a:rPr>
              <a:t>Due Monday, 2/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thesis statement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clares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what you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believe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and what you intend to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ro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 thesis . . .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. . . is a road map for the pape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t tells the reader what to expect from the rest of the paper and provides a foc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A thesis . . .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. . . is an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nterpretation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of a subject, not the subject itself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For example, the subject or topic of your paper might be World War II or </a:t>
            </a:r>
            <a:r>
              <a:rPr b="0" i="1" lang="en-US" sz="3600" spc="-1" strike="noStrike">
                <a:solidFill>
                  <a:srgbClr val="ffff66"/>
                </a:solidFill>
                <a:latin typeface="Arial"/>
              </a:rPr>
              <a:t>Of Mice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66"/>
                </a:solidFill>
                <a:latin typeface="Arial"/>
              </a:rPr>
              <a:t>and Men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hesis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offers the reader a way to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understand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the war or the novel.</a:t>
            </a: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The thesis statement is typically located at the ______ of your opening paragraph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thesis contains: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Title of the work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Author’s na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Foc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76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Major idea you want to explo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Two or three support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76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Literary elements or tags from your no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The Virgin Sui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Jeffrey Eugen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Focus = teenage sui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upports = depression, family influence, perce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Black"/>
              </a:rPr>
              <a:t>Blueprint for your thesis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[Title of Work], [Author]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explain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[focus]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using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[support 1, support 2,  support 3]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The Virgin Suicides,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Jeffrey Eugenides discusses the teen suicide phenomenon by examining the girls’ depression, their family relationships and the way they are perceived by the community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You already have a star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Look over your no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Decide which aspect you wish to be your focus, your main poi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See which tags could work as suppor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Craft everything into a sente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In his short story, “The Metamorphosis,” Franz Kafka uses </a:t>
            </a: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ymbolism, stream-of-consciousness, and family relationships </a:t>
            </a: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to develop the theme</a:t>
            </a:r>
            <a:r>
              <a:rPr b="1" lang="en-US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of </a:t>
            </a: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alien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1:57:40Z</dcterms:created>
  <dc:creator>Peterson's</dc:creator>
  <dc:description/>
  <dc:language>en-US</dc:language>
  <cp:lastModifiedBy>ASD</cp:lastModifiedBy>
  <dcterms:modified xsi:type="dcterms:W3CDTF">2010-01-27T12:33:41Z</dcterms:modified>
  <cp:revision>38</cp:revision>
  <dc:subject/>
  <dc:title>What is a thesis?</dc:title>
</cp:coreProperties>
</file>